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7297560" y="6519960"/>
            <a:ext cx="187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3a4c69"/>
                </a:solidFill>
                <a:latin typeface="Arial"/>
              </a:rPr>
              <a:t>Oxford University Press España, S.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080" y="651816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3a4c69"/>
                </a:solidFill>
                <a:latin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3160" y="6622920"/>
            <a:ext cx="89352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3160" y="6645240"/>
            <a:ext cx="89352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624720"/>
            <a:ext cx="404028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643800"/>
            <a:ext cx="404028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8120" y="830160"/>
            <a:ext cx="8834760" cy="5448240"/>
          </a:xfrm>
          <a:prstGeom prst="roundRect">
            <a:avLst>
              <a:gd name="adj" fmla="val 1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633760" y="6154560"/>
            <a:ext cx="66600" cy="954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653200" y="6094440"/>
            <a:ext cx="40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ESIONE LA BARRA ESPACIADORA PARA AVANZAR EN LOS CONTENI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7783560" y="264960"/>
            <a:ext cx="1074600" cy="5000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1150920" y="6543720"/>
            <a:ext cx="1909800" cy="18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209680" y="4038480"/>
            <a:ext cx="2325960" cy="1905120"/>
            <a:chOff x="2209680" y="4038480"/>
            <a:chExt cx="2325960" cy="1905120"/>
          </a:xfrm>
        </p:grpSpPr>
        <p:sp>
          <p:nvSpPr>
            <p:cNvPr id="50" name=""/>
            <p:cNvSpPr/>
            <p:nvPr/>
          </p:nvSpPr>
          <p:spPr>
            <a:xfrm>
              <a:off x="2209680" y="4038480"/>
              <a:ext cx="2325960" cy="19051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514600" y="4343400"/>
              <a:ext cx="1736640" cy="13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4800600" y="4114800"/>
            <a:ext cx="2328840" cy="1828800"/>
          </a:xfrm>
          <a:prstGeom prst="rect">
            <a:avLst/>
          </a:prstGeom>
          <a:solidFill>
            <a:srgbClr val="fdfbe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idos, excepto el mercu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eza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vados puntos de fusión y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bulli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úctiles y male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enos conductores del cal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la electricid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7960" y="216000"/>
            <a:ext cx="532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NLACE QUÍMICO I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nlace met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44480"/>
            <a:ext cx="1471320" cy="49068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caracteriza 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112920"/>
            <a:ext cx="8534160" cy="46836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lac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etálic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se forma cuando los átomos de un mismo metal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libera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su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lectron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de valencia y estos pueden moverse por toda la red metál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13480" y="1555920"/>
            <a:ext cx="2082960" cy="687240"/>
            <a:chOff x="6513480" y="1555920"/>
            <a:chExt cx="2082960" cy="687240"/>
          </a:xfrm>
        </p:grpSpPr>
        <p:sp>
          <p:nvSpPr>
            <p:cNvPr id="57" name=""/>
            <p:cNvSpPr/>
            <p:nvPr/>
          </p:nvSpPr>
          <p:spPr>
            <a:xfrm>
              <a:off x="6513480" y="1806480"/>
              <a:ext cx="596880" cy="149400"/>
            </a:xfrm>
            <a:prstGeom prst="rightArrow">
              <a:avLst>
                <a:gd name="adj1" fmla="val 50000"/>
                <a:gd name="adj2" fmla="val 99880"/>
              </a:avLst>
            </a:prstGeom>
            <a:solidFill>
              <a:srgbClr val="ab2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23040" y="1555920"/>
              <a:ext cx="1373400" cy="687240"/>
            </a:xfrm>
            <a:prstGeom prst="rect">
              <a:avLst/>
            </a:prstGeom>
            <a:solidFill>
              <a:srgbClr val="fdfbe5"/>
            </a:solidFill>
            <a:ln w="12600">
              <a:solidFill>
                <a:srgbClr val="ab21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ab2180"/>
                  </a:solidFill>
                  <a:latin typeface="Arial"/>
                  <a:ea typeface="ＭＳ Ｐゴシック"/>
                </a:rPr>
                <a:t>ÁTOMOS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ab2180"/>
                  </a:solidFill>
                  <a:latin typeface="Arial"/>
                  <a:ea typeface="ＭＳ Ｐゴシック"/>
                </a:rPr>
                <a:t>UN MISMO ME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04920" y="2646360"/>
            <a:ext cx="8534160" cy="304920"/>
          </a:xfrm>
          <a:prstGeom prst="rect">
            <a:avLst/>
          </a:prstGeom>
          <a:solidFill>
            <a:srgbClr val="ab2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RMACIÓN DEL ENLACE METÁ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914400"/>
            <a:ext cx="8534160" cy="304920"/>
          </a:xfrm>
          <a:prstGeom prst="rect">
            <a:avLst/>
          </a:prstGeom>
          <a:solidFill>
            <a:srgbClr val="ab2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CANISMO DE UN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211640" y="1643040"/>
            <a:ext cx="2212920" cy="490680"/>
            <a:chOff x="4211640" y="1643040"/>
            <a:chExt cx="2212920" cy="490680"/>
          </a:xfrm>
        </p:grpSpPr>
        <p:sp>
          <p:nvSpPr>
            <p:cNvPr id="62" name=""/>
            <p:cNvSpPr/>
            <p:nvPr/>
          </p:nvSpPr>
          <p:spPr>
            <a:xfrm>
              <a:off x="4952880" y="1643040"/>
              <a:ext cx="1471680" cy="490680"/>
            </a:xfrm>
            <a:prstGeom prst="rect">
              <a:avLst/>
            </a:prstGeom>
            <a:solidFill>
              <a:srgbClr val="e8f5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 debe a la unión ent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11640" y="1784520"/>
              <a:ext cx="596880" cy="149040"/>
            </a:xfrm>
            <a:prstGeom prst="rightArrow">
              <a:avLst>
                <a:gd name="adj1" fmla="val 50000"/>
                <a:gd name="adj2" fmla="val 100121"/>
              </a:avLst>
            </a:prstGeom>
            <a:solidFill>
              <a:srgbClr val="ab2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873080" y="1643040"/>
            <a:ext cx="2151360" cy="490680"/>
            <a:chOff x="1873080" y="1643040"/>
            <a:chExt cx="2151360" cy="490680"/>
          </a:xfrm>
        </p:grpSpPr>
        <p:sp>
          <p:nvSpPr>
            <p:cNvPr id="65" name=""/>
            <p:cNvSpPr/>
            <p:nvPr/>
          </p:nvSpPr>
          <p:spPr>
            <a:xfrm>
              <a:off x="2552760" y="1643040"/>
              <a:ext cx="1471680" cy="490680"/>
            </a:xfrm>
            <a:prstGeom prst="rect">
              <a:avLst/>
            </a:prstGeom>
            <a:solidFill>
              <a:srgbClr val="e8f5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beración de electr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73080" y="1792440"/>
              <a:ext cx="597240" cy="149040"/>
            </a:xfrm>
            <a:prstGeom prst="rightArrow">
              <a:avLst>
                <a:gd name="adj1" fmla="val 50000"/>
                <a:gd name="adj2" fmla="val 100181"/>
              </a:avLst>
            </a:prstGeom>
            <a:solidFill>
              <a:srgbClr val="ab2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209680" y="3741840"/>
            <a:ext cx="2325960" cy="37152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 metál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3741840"/>
            <a:ext cx="2325600" cy="37152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ie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3:01:51Z</dcterms:created>
  <dc:creator>iMac Runroom</dc:creator>
  <dc:description/>
  <dc:language>en-US</dc:language>
  <cp:lastModifiedBy>Mamá</cp:lastModifiedBy>
  <dcterms:modified xsi:type="dcterms:W3CDTF">2011-11-14T19:53:30Z</dcterms:modified>
  <cp:revision>54</cp:revision>
  <dc:subject/>
  <dc:title>Presentación de PowerPoint</dc:title>
</cp:coreProperties>
</file>